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2.png" ContentType="image/png"/>
  <Override PartName="/ppt/media/image8.png" ContentType="image/png"/>
  <Override PartName="/ppt/media/image1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272CB-703A-4513-B265-D13131B66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E4C6A-7B58-4E79-BB47-D791D3A2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7FD46-ABD9-4413-85AE-22B48EA0A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267BC-F884-469B-8A5C-2BA106396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BD231-3084-4AD0-BCF0-C38C5F98E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62A26-9D2F-465C-903D-677E001B3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5EF09-8E08-4A49-AC98-6F0BB1EE0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13A19-7F09-403F-B313-710500465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8585A-4F63-4579-9466-625FFBA89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75BFB-AB20-437B-AA9A-D384EDABC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F00DF-28AE-4EDD-9EF3-97BDC3D2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BDC2-EF7F-4B4E-A88E-61CC7D3B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00D85-CCF5-443E-9125-F32944C2B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2369-8A8C-463B-827F-978CF012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700EB-2257-420D-9388-DCCD620CB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934B9-D7CA-4870-94A6-6B3D798AF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852E0-0BAD-4200-8EA9-3CB350445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FD830-7F63-437A-9E28-C716BD239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FEC6D-9536-4B7D-B7EE-831A5FA9B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B1C91-2638-4F07-A75C-D98F87E9D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BF3FB-76F2-4AEF-BD08-79BF98956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96CE8-80EA-4E51-98C6-D3E676D88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5B1E-8B26-4A47-804F-C1F1A8BA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54894-4DC4-4947-AC88-466615E9A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2BCBB-144E-4F20-A5ED-BCB3886AE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6006C-7EE8-42F9-9E4C-91CB79C8F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2CFFB-4F52-4E35-A508-6063598BF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97A3C-5623-468E-9770-7ACDB1D6F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18424-EF8A-46A1-BC39-3A61F11C2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7B6872-C508-40F8-B10D-38BDC054D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0018BE-777E-43BC-BB24-31A5754173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705DA-18C4-405F-9BB2-0412058E2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96BBD-8F20-4F52-92D3-8817687C0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899D4-A6F9-42FF-9727-9ECD74832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22784-B5C6-451D-BD20-F90677E64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DF0FA-7A96-41C0-9A7C-F10BFD4AF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9DCF2-A3FD-408D-A9D4-E4106E27F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C4739-580D-4AAF-92CE-81DA221A5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12687-CE1B-41A3-9F3D-230E567C0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F3580-9DAC-418D-A804-A0F8B482E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1017D-3314-4AD3-81E5-059E522AF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852528-C8F5-4BE9-BA8F-0AD92574E6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359E6B-13BF-4787-B0D7-7CD445B61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C6B30-886C-43C6-AD8A-176C6C991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B4F83-38AD-4945-BC46-BDD6396A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27B52-0202-44EA-8E88-08B922BCB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100FE-4D96-4F87-9DF0-663367489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4CB88F-256C-4DD3-A7C1-23ED1EBCE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64369-9472-4201-94A4-7CCAF2006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A10B1-B72B-4DB9-969D-BF55262FB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63452-CC75-49B0-985A-2517C3C53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F21AD-75F6-442D-9212-5E4D734D6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204A3-4750-4F0A-9F19-3091067A9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5E09D-B6F2-4AAC-A3FF-79A2E0915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41E31A-1C2A-4DA8-BB54-00F038315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2C01-9748-4BB8-AF6A-469EC0189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66BAD-C40D-481E-B0C8-D95C25722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C0AAD-F56F-4C67-8AF8-90DD155E8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803E67-66F8-4187-9A60-73EA8DD09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E1AD5-32D9-4002-8AB6-BEBD5428C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D3FC4-0E39-4220-A301-2FB740A32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6681D-DC8A-47EF-8A04-4C8580E7C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6EEF98-33DB-4C29-BA68-C0508E753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42A23-C43E-4506-AAFF-C2E5498C7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5DECC-4E0D-4585-BBDA-9673ED178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1E29B-E8C7-4CF9-8DF5-D5C7DA59B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2D67-76DB-4B1C-B4C9-64EBE12D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2BAB8-A3C0-4E49-A67C-A41FBB501A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55DD8-6AB5-4799-B1FE-4B63934E29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2C2EBE-CCCD-4E92-8BF2-CB0CD56DA7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B14457-9D62-4AED-8DC1-D9EAA15A88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7A688-A29C-4A01-B80D-FB8623E91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5401D-E19C-472A-AB0A-D1880EBD4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3BB14-F6FA-4601-9B69-1E25441C2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F3F21-5D66-43BE-9BDC-A07995F962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0EC675-DFFB-4E61-90BD-0E299FD78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1F320-FAF3-444D-B3C9-61B9C6416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2E0B-EB43-4254-833A-ADA78E091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58387-4E99-4045-968C-6A06723EB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6CC9E-9519-4132-A5A2-DA29C2788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D4D09-2C63-4496-A9B9-36C74863A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51B575-0E6B-4A54-AEDE-382851E568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6BBC7E-7B1A-42A4-B494-187B53721E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AF91-EEE4-47C2-93C3-BC90DF78D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144B-B605-4C00-A734-E3DE134DFC0A}"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255B-A338-4D8A-BA90-E0D4C0A82CEE}"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9EC6-43BD-4896-BA05-C276FDE7E0FB}"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09FA-C52A-4BDD-858E-F71E4A483DFE}"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4745-376B-4D25-9155-FCBE4F5C23FD}"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6942-4825-46BB-A290-FD0A3633BBB4}"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D4BD-7315-4A0F-9BE7-D4AD45FF4DA3}"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3" descr=""/>
          <p:cNvPicPr/>
          <p:nvPr/>
        </p:nvPicPr>
        <p:blipFill>
          <a:blip r:embed="rId1"/>
          <a:stretch/>
        </p:blipFill>
        <p:spPr>
          <a:xfrm>
            <a:off x="1255680" y="1073160"/>
            <a:ext cx="6345360" cy="3071880"/>
          </a:xfrm>
          <a:prstGeom prst="rect">
            <a:avLst/>
          </a:prstGeom>
          <a:ln w="0">
            <a:noFill/>
          </a:ln>
        </p:spPr>
      </p:pic>
      <p:sp>
        <p:nvSpPr>
          <p:cNvPr id="304" name="PlaceHolder 1"/>
          <p:cNvSpPr>
            <a:spLocks noGrp="1"/>
          </p:cNvSpPr>
          <p:nvPr>
            <p:ph type="subTitle"/>
          </p:nvPr>
        </p:nvSpPr>
        <p:spPr>
          <a:xfrm>
            <a:off x="684360" y="3964680"/>
            <a:ext cx="1295280" cy="110160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3340080" y="328680"/>
            <a:ext cx="5413320" cy="987480"/>
          </a:xfrm>
          <a:prstGeom prst="rect">
            <a:avLst/>
          </a:prstGeom>
          <a:ln w="0">
            <a:noFill/>
          </a:ln>
        </p:spPr>
      </p:pic>
      <p:pic>
        <p:nvPicPr>
          <p:cNvPr id="327" name="Рисунок 4" descr="sud-syktyvkar.jpg"/>
          <p:cNvPicPr/>
          <p:nvPr/>
        </p:nvPicPr>
        <p:blipFill>
          <a:blip r:embed="rId2"/>
          <a:srcRect l="6397" t="0" r="6397" b="0"/>
          <a:stretch/>
        </p:blipFill>
        <p:spPr>
          <a:xfrm>
            <a:off x="2903400" y="1484280"/>
            <a:ext cx="6248520" cy="5373720"/>
          </a:xfrm>
          <a:prstGeom prst="rect">
            <a:avLst/>
          </a:prstGeom>
          <a:ln w="0">
            <a:noFill/>
          </a:ln>
        </p:spPr>
      </p:pic>
      <p:sp>
        <p:nvSpPr>
          <p:cNvPr id="328" name="PlaceHolder 1"/>
          <p:cNvSpPr>
            <a:spLocks noGrp="1"/>
          </p:cNvSpPr>
          <p:nvPr>
            <p:ph/>
          </p:nvPr>
        </p:nvSpPr>
        <p:spPr>
          <a:xfrm>
            <a:off x="164880" y="1728720"/>
            <a:ext cx="2468520" cy="4572000"/>
          </a:xfrm>
          <a:prstGeom prst="rect">
            <a:avLst/>
          </a:prstGeom>
          <a:noFill/>
          <a:ln w="0">
            <a:noFill/>
          </a:ln>
        </p:spPr>
        <p:txBody>
          <a:bodyPr lIns="54720" tIns="9144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Gebäude des städtischen Gerichtes war im Jahre  1970 gebaut. Dieses Gebäude ist auch nicht besonders bemerkenswert. Nichtsdestoweniger werden  die Sachen der Rechtsverletzer  hier betrachtet und werden ihre Schicksale entschieden.  Es  nimmt sich doch auch die wichtige Stelle im Verwaltungssystem der Stadt ein.</a:t>
            </a:r>
            <a:endParaRPr b="0" lang="en-US" sz="1800" spc="-1" strike="noStrike">
              <a:solidFill>
                <a:srgbClr val="000000"/>
              </a:solidFill>
              <a:latin typeface="Corbel"/>
            </a:endParaRPr>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30"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orbel"/>
              </a:rPr>
              <a:t>Die Stadt hat das entwickelte Verwaltungssystem. In der gegebenen Präsentation waren nur die  hauptesten administrativen Institutionen durchgesehen. Nichtsdestoweniger gibt es noch viele anderen Verwaltungsgebäude wie das Ministerium der inneren Sachen, das Gebäude des Schutzes, das Ministerium der Justiz der  Republik der Komi und andere, die  nicht unwesentlichen Rollen im Verwaltungssystem spielen. Wenn jemand  sich mit ihnen näher  bekannt machen will - Willkommen kennenlernen!</a:t>
            </a:r>
            <a:endParaRPr b="0" lang="en-US" sz="3000" spc="-1" strike="noStrike">
              <a:solidFill>
                <a:srgbClr val="000000"/>
              </a:solidFill>
              <a:latin typeface="Corbel"/>
            </a:endParaRPr>
          </a:p>
        </p:txBody>
      </p:sp>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Заголовок 1" descr=""/>
          <p:cNvPicPr/>
          <p:nvPr/>
        </p:nvPicPr>
        <p:blipFill>
          <a:blip r:embed="rId1"/>
          <a:stretch/>
        </p:blipFill>
        <p:spPr>
          <a:xfrm>
            <a:off x="324000" y="2298600"/>
            <a:ext cx="8723160" cy="1871640"/>
          </a:xfrm>
          <a:prstGeom prst="rect">
            <a:avLst/>
          </a:prstGeom>
          <a:ln w="0">
            <a:noFill/>
          </a:ln>
        </p:spPr>
      </p:pic>
      <p:sp>
        <p:nvSpPr>
          <p:cNvPr id="332"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396720" y="3157560"/>
            <a:ext cx="8375760" cy="1878120"/>
          </a:xfrm>
          <a:prstGeom prst="rect">
            <a:avLst/>
          </a:prstGeom>
          <a:ln w="0">
            <a:noFill/>
          </a:ln>
        </p:spPr>
      </p:pic>
      <p:sp>
        <p:nvSpPr>
          <p:cNvPr id="33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rbe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7" descr=""/>
          <p:cNvPicPr/>
          <p:nvPr/>
        </p:nvPicPr>
        <p:blipFill>
          <a:blip r:embed="rId1"/>
          <a:stretch/>
        </p:blipFill>
        <p:spPr>
          <a:xfrm>
            <a:off x="311040" y="-6480"/>
            <a:ext cx="8382240" cy="142092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Erstens ist es eine moderne Industriestadt mit seinen Vollzugs- und Repräsentativbehörden, mit seiner Kompetenz.</a:t>
            </a:r>
            <a:endParaRPr b="0" lang="en-US" sz="3200" spc="-1" strike="noStrike">
              <a:solidFill>
                <a:srgbClr val="000000"/>
              </a:solidFill>
              <a:latin typeface="Corbe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Zweitens  ist es die Hauptstadt, wo die Residenz von Haupt unserer Republik sich befindet, wo  die Regirungsanstalte  funktionieren und der Staatsrat der Republik seinen Sitz ha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500" spc="-1" strike="noStrike">
              <a:solidFill>
                <a:srgbClr val="ffc800"/>
              </a:solidFill>
              <a:latin typeface="Corbel"/>
            </a:endParaRPr>
          </a:p>
        </p:txBody>
      </p:sp>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rbel"/>
              </a:rPr>
              <a:t>Jede Stadt fängt von einer Verwaltung an. Unsere Hauptstadt ist keine Ausnah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
          <p:cNvPicPr/>
          <p:nvPr/>
        </p:nvPicPr>
        <p:blipFill>
          <a:blip r:embed="rId1"/>
          <a:srcRect l="0" t="17680" r="0" b="17680"/>
          <a:stretch/>
        </p:blipFill>
        <p:spPr>
          <a:xfrm>
            <a:off x="2903400" y="1484280"/>
            <a:ext cx="6248520" cy="5373720"/>
          </a:xfrm>
          <a:prstGeom prst="rect">
            <a:avLst/>
          </a:prstGeom>
          <a:ln w="0">
            <a:noFill/>
          </a:ln>
        </p:spPr>
      </p:pic>
      <p:pic>
        <p:nvPicPr>
          <p:cNvPr id="312" name="Заголовок 3" descr=""/>
          <p:cNvPicPr/>
          <p:nvPr/>
        </p:nvPicPr>
        <p:blipFill>
          <a:blip r:embed="rId2"/>
          <a:stretch/>
        </p:blipFill>
        <p:spPr>
          <a:xfrm>
            <a:off x="4108320" y="328680"/>
            <a:ext cx="4718160" cy="871560"/>
          </a:xfrm>
          <a:prstGeom prst="rect">
            <a:avLst/>
          </a:prstGeom>
          <a:ln w="0">
            <a:noFill/>
          </a:ln>
        </p:spPr>
      </p:pic>
      <p:sp>
        <p:nvSpPr>
          <p:cNvPr id="313" name="PlaceHolder 1"/>
          <p:cNvSpPr>
            <a:spLocks noGrp="1"/>
          </p:cNvSpPr>
          <p:nvPr>
            <p:ph/>
          </p:nvPr>
        </p:nvSpPr>
        <p:spPr>
          <a:xfrm>
            <a:off x="-360" y="1483920"/>
            <a:ext cx="2916360" cy="475308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Leben der Stadt verwaltet die Verwaltung. Das Oberhaupt der Verwaltung wird auf der alternativen Grundlage zu den Abgeordneten der Gemeindebildung gewählt. Zum gegenwärtigen Tag ist Oberhaupt  I. A  Posdeew. Nach der Form erinnert das Gebäude der Verwaltung die flatternde riesenhafte Stoffbahn der staatlichen Fahne.</a:t>
            </a:r>
            <a:endParaRPr b="0" lang="en-US" sz="1800" spc="-1" strike="noStrike">
              <a:solidFill>
                <a:srgbClr val="000000"/>
              </a:solidFill>
              <a:latin typeface="Corbe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639880" y="255600"/>
            <a:ext cx="6680160" cy="878040"/>
          </a:xfrm>
          <a:prstGeom prst="rect">
            <a:avLst/>
          </a:prstGeom>
          <a:ln w="0">
            <a:noFill/>
          </a:ln>
        </p:spPr>
      </p:pic>
      <p:pic>
        <p:nvPicPr>
          <p:cNvPr id="315" name="Picture 2" descr=""/>
          <p:cNvPicPr/>
          <p:nvPr/>
        </p:nvPicPr>
        <p:blipFill>
          <a:blip r:embed="rId2"/>
          <a:srcRect l="6400" t="0" r="6400" b="0"/>
          <a:stretch/>
        </p:blipFill>
        <p:spPr>
          <a:xfrm>
            <a:off x="2903400" y="1484280"/>
            <a:ext cx="6248520" cy="5373720"/>
          </a:xfrm>
          <a:prstGeom prst="rect">
            <a:avLst/>
          </a:prstGeom>
          <a:ln w="0">
            <a:noFill/>
          </a:ln>
        </p:spPr>
      </p:pic>
      <p:sp>
        <p:nvSpPr>
          <p:cNvPr id="316" name="PlaceHolder 1"/>
          <p:cNvSpPr>
            <a:spLocks noGrp="1"/>
          </p:cNvSpPr>
          <p:nvPr>
            <p:ph/>
          </p:nvPr>
        </p:nvSpPr>
        <p:spPr>
          <a:xfrm>
            <a:off x="-360" y="1412640"/>
            <a:ext cx="2771640" cy="4895640"/>
          </a:xfrm>
          <a:prstGeom prst="rect">
            <a:avLst/>
          </a:prstGeom>
          <a:noFill/>
          <a:ln w="0">
            <a:noFill/>
          </a:ln>
        </p:spPr>
        <p:txBody>
          <a:bodyPr lIns="54720" tIns="9144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Auf  dem Hauptplatz der Stadt – auf dem Stefanowplatz - liegt die Residenz des Hauptes. </a:t>
            </a:r>
            <a:endParaRPr b="0" lang="en-US" sz="18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ntsprechend der Verfassung Republik der Komi wird das Haupt der Republik zur geraden allgemeinen  heimlichen Abstimmung für die Periode von vier Jahren gewählt. Heutzutage nimmt  V. M. Heiser  sich dieses Amt. Das  Haupt der Republik der Komi  ist ein Bürge ihrer Verfassung  und gleichzeitig leitet die vollziehende Macht der Region.</a:t>
            </a:r>
            <a:endParaRPr b="0" lang="en-US" sz="1800" spc="-1" strike="noStrike">
              <a:solidFill>
                <a:srgbClr val="000000"/>
              </a:solidFill>
              <a:latin typeface="Corbel"/>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3255840" y="255600"/>
            <a:ext cx="5894640" cy="987480"/>
          </a:xfrm>
          <a:prstGeom prst="rect">
            <a:avLst/>
          </a:prstGeom>
          <a:ln w="0">
            <a:noFill/>
          </a:ln>
        </p:spPr>
      </p:pic>
      <p:pic>
        <p:nvPicPr>
          <p:cNvPr id="318" name="Рисунок 4" descr="Гос Совет.jpg"/>
          <p:cNvPicPr/>
          <p:nvPr/>
        </p:nvPicPr>
        <p:blipFill>
          <a:blip r:embed="rId2"/>
          <a:srcRect l="11409" t="0" r="11409" b="0"/>
          <a:stretch/>
        </p:blipFill>
        <p:spPr>
          <a:xfrm>
            <a:off x="2903400" y="1413000"/>
            <a:ext cx="6240600" cy="5445000"/>
          </a:xfrm>
          <a:prstGeom prst="rect">
            <a:avLst/>
          </a:prstGeom>
          <a:ln w="0">
            <a:noFill/>
          </a:ln>
        </p:spPr>
      </p:pic>
      <p:sp>
        <p:nvSpPr>
          <p:cNvPr id="319" name="PlaceHolder 1"/>
          <p:cNvSpPr>
            <a:spLocks noGrp="1"/>
          </p:cNvSpPr>
          <p:nvPr>
            <p:ph/>
          </p:nvPr>
        </p:nvSpPr>
        <p:spPr>
          <a:xfrm>
            <a:off x="178920" y="1628280"/>
            <a:ext cx="2468520" cy="4643640"/>
          </a:xfrm>
          <a:prstGeom prst="rect">
            <a:avLst/>
          </a:prstGeom>
          <a:noFill/>
          <a:ln w="0">
            <a:noFill/>
          </a:ln>
        </p:spPr>
        <p:txBody>
          <a:bodyPr lIns="54720" tIns="9144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er Staatsrat der Republik  wird auf vier Jahre auch gewählt. Er  behauptet das Budget der Republik, überwacht seine Erfüllung, verwirklicht die Erarbeitung der Gesetze geltend auf das Territorium  Komi,  es erweist sich mit den gesetzgebenden Initiativen auf die Staatsduma Russischer  Föderation.</a:t>
            </a:r>
            <a:endParaRPr b="0" lang="en-US" sz="1800" spc="-1" strike="noStrike">
              <a:solidFill>
                <a:srgbClr val="000000"/>
              </a:solidFill>
              <a:latin typeface="Corbe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 descr=""/>
          <p:cNvPicPr/>
          <p:nvPr/>
        </p:nvPicPr>
        <p:blipFill>
          <a:blip r:embed="rId1"/>
          <a:stretch/>
        </p:blipFill>
        <p:spPr>
          <a:xfrm>
            <a:off x="2903040" y="1483920"/>
            <a:ext cx="6248520" cy="5373720"/>
          </a:xfrm>
          <a:prstGeom prst="rect">
            <a:avLst/>
          </a:prstGeom>
          <a:ln w="0">
            <a:noFill/>
          </a:ln>
        </p:spPr>
      </p:pic>
      <p:pic>
        <p:nvPicPr>
          <p:cNvPr id="321" name="Заголовок 1" descr=""/>
          <p:cNvPicPr/>
          <p:nvPr/>
        </p:nvPicPr>
        <p:blipFill>
          <a:blip r:embed="rId2"/>
          <a:stretch/>
        </p:blipFill>
        <p:spPr>
          <a:xfrm>
            <a:off x="2736720" y="92160"/>
            <a:ext cx="6235920" cy="1108080"/>
          </a:xfrm>
          <a:prstGeom prst="rect">
            <a:avLst/>
          </a:prstGeom>
          <a:ln w="0">
            <a:noFill/>
          </a:ln>
        </p:spPr>
      </p:pic>
      <p:sp>
        <p:nvSpPr>
          <p:cNvPr id="322" name="PlaceHolder 1"/>
          <p:cNvSpPr>
            <a:spLocks noGrp="1"/>
          </p:cNvSpPr>
          <p:nvPr>
            <p:ph/>
          </p:nvPr>
        </p:nvSpPr>
        <p:spPr>
          <a:xfrm>
            <a:off x="165240" y="1728720"/>
            <a:ext cx="82231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rbel"/>
              </a:rPr>
              <a:t>Das dreigeschossige Gebäude, das in den Traditionen des „Staliner“ Klassizismus errichtet ist,  ist streng und entsprechend seinem offiziellen Charakter gebaut. Das Ministerium der Bildung und der höchsten Schule der  Republik  richtet sich in diesem Gebäude seit dem Jahre 1992  ein.</a:t>
            </a:r>
            <a:endParaRPr b="0" lang="en-US" sz="2800" spc="-1" strike="noStrike">
              <a:solidFill>
                <a:srgbClr val="000000"/>
              </a:solidFill>
              <a:latin typeface="Corbel"/>
            </a:endParaRPr>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3054240" y="328680"/>
            <a:ext cx="6096240" cy="987480"/>
          </a:xfrm>
          <a:prstGeom prst="rect">
            <a:avLst/>
          </a:prstGeom>
          <a:ln w="0">
            <a:noFill/>
          </a:ln>
        </p:spPr>
      </p:pic>
      <p:pic>
        <p:nvPicPr>
          <p:cNvPr id="324" name="Рисунок 4" descr="прокуратура.JPG"/>
          <p:cNvPicPr/>
          <p:nvPr/>
        </p:nvPicPr>
        <p:blipFill>
          <a:blip r:embed="rId2"/>
          <a:srcRect l="0" t="17751" r="0" b="17751"/>
          <a:stretch/>
        </p:blipFill>
        <p:spPr>
          <a:xfrm>
            <a:off x="2903400" y="1484280"/>
            <a:ext cx="6248520" cy="5373720"/>
          </a:xfrm>
          <a:prstGeom prst="rect">
            <a:avLst/>
          </a:prstGeom>
          <a:ln w="0">
            <a:noFill/>
          </a:ln>
        </p:spPr>
      </p:pic>
      <p:sp>
        <p:nvSpPr>
          <p:cNvPr id="325"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Gebäude der Staatsanwaltschaft ist in 1963 nach dem typisierten Projekt gebaut. In vielen Bezirkszentren kann man viel Verwaltungsgebäude solchen Typs sehen. Doch nimmt sie sich nicht die letzte Stelle in das Leben der Stadt ein. In ihrem Amt befinden sich die Strafsachen Syktywkars.</a:t>
            </a:r>
            <a:endParaRPr b="0" lang="en-US" sz="1800" spc="-1" strike="noStrike">
              <a:solidFill>
                <a:srgbClr val="000000"/>
              </a:solidFill>
              <a:latin typeface="Corbel"/>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28:36Z</dcterms:created>
  <dc:creator>Валя</dc:creator>
  <dc:description/>
  <dc:language>en-US</dc:language>
  <cp:lastModifiedBy>Валя</cp:lastModifiedBy>
  <dcterms:modified xsi:type="dcterms:W3CDTF">2012-04-11T19:48:48Z</dcterms:modified>
  <cp:revision>23</cp:revision>
  <dc:subject/>
  <dc:title>Syktywkar ist die Hauptstadt der Republik</dc:title>
</cp:coreProperties>
</file>